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E41D0-10A9-4D0B-82F7-07FB6AB34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D0B2D-F195-4E5A-BFDB-5B8CFE98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64400-E302-4F03-B323-A059B57F4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0AFA5-0AE2-40BE-90CB-F84492054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2442545-1BD4-469C-97E0-557E7D7AA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F3F74D-A8F7-412E-9040-768A2E9C0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BF04E4-C92F-408E-A713-2A528A16C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6491A3-5B2B-4701-AB39-A35D9C842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2848A6-C46C-4B7E-A910-81AC03D1E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C163A0-0537-4DA6-942B-0BBF6D9BBB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5F49E6-D57E-4DC0-9871-90E3AD7F8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A1428-02BD-4158-8172-B402FB42E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4B01BA-D917-4867-BF73-B72A574E3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F97A12-63E1-495B-AA94-59C44B0B4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E847FA-5720-4552-85A1-4E8B7FBB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5E9197-4D81-45D7-B0F4-F1D8ACF9B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7DE216D-5663-49DC-A79A-294D22021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56839F-4BDF-40B8-8B39-41732316C3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C8C066-3018-4FCB-B16D-7724FEF706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AC378-D00A-4BC3-84F6-61BE81E817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2DD46-A882-4C3B-81D7-67DEB9106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4E65BF-54D2-412D-99BA-472D756E3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AC631-BE8C-477C-A1D8-FC0AC76ED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81DF3-50CC-4063-AE53-1FDD09F33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E0B41-8EBD-4939-856F-9BCFB0187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E1C73-7E84-4677-A568-D74D8D7C7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BBCA8F-6DDE-4AEC-938B-0C4DA53F2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77BFE3-020A-44B2-BB24-CF88FB7065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164A7E-ED20-41E3-84C9-A635C28ABF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48CD14-4DB7-487B-8D37-118549589A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9DFAC7D-D62A-4425-92A4-324E4361F6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BAE249B-C3CD-4D61-9936-C889D20971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5538F08-1D7F-4D1D-9EC5-F2C55B2311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6382F-AD4C-4163-879F-8EA0AE6CE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9856290-6665-4F42-A4C4-9142878023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0759ACC-585E-4721-8AD2-AE53F9D716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A3D84F5-8538-4F41-B198-B6C8DB4B62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44600FF-F8C5-439A-B6C1-ADA921EBFE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5E1E61A-8F90-4556-8A9D-DEE879BDC7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FE10D35-AE01-4B80-9FE8-8FC0D8A50D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F2ADC4E-F84A-4F37-93C2-A093E281C0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6B1644FA-8774-4F3D-BE34-FB74664C14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DC2CBE9-5723-41E8-8EC5-00B8CA9653D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174F-3AFF-4AE8-AFDD-B996A22D3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F378A-2EA1-4836-9D21-AA50E3786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C1641-1D52-49E1-83A0-C5A484D4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238D7-61AE-46AB-AB64-500C075B5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3368-DC44-407D-815C-4B2D66358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5937-5D5C-4003-BA36-F75314C2FBAD}"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C957-5C3D-40EA-8566-A5C57FA400F0}"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0B93-687D-4CD1-B21B-9D3A1B5ABF8B}"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3351C-7F47-47A1-B2E5-8C2B992DA25C}" type="slidenum">
              <a:rPr b="0" lang="en-US" sz="1600" spc="-1" strike="noStrike">
                <a:solidFill>
                  <a:srgbClr val="fefac9"/>
                </a:solidFill>
                <a:latin typeface="Constantia"/>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Constantia"/>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mart-words.org/transition-words.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MPROVE YOUR SKILLS FOR BOTH US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BASIC READING INVENTORY</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THE 6+1 TRAITS OF WRITING</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GRAPHIC ORGANIZERS</a:t>
            </a:r>
            <a:endParaRPr b="0" lang="en-US" sz="1400" spc="-1" strike="noStrike">
              <a:solidFill>
                <a:srgbClr val="ffffff"/>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ac9"/>
                </a:solidFill>
                <a:latin typeface="Constantia"/>
              </a:rPr>
              <a:t>INTERNET RESEARCH</a:t>
            </a:r>
            <a:endParaRPr b="0" lang="en-US" sz="1400" spc="-1" strike="noStrike">
              <a:solidFill>
                <a:srgbClr val="ffffff"/>
              </a:solidFill>
              <a:latin typeface="Constantia"/>
            </a:endParaRPr>
          </a:p>
        </p:txBody>
      </p:sp>
      <p:pic>
        <p:nvPicPr>
          <p:cNvPr id="171" name="Title 1" descr=""/>
          <p:cNvPicPr/>
          <p:nvPr/>
        </p:nvPicPr>
        <p:blipFill>
          <a:blip r:embed="rId1"/>
          <a:stretch/>
        </p:blipFill>
        <p:spPr>
          <a:xfrm>
            <a:off x="457200" y="1432080"/>
            <a:ext cx="830880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Ideas/Content</a:t>
            </a:r>
            <a:endParaRPr b="0" lang="en-US" sz="4200" spc="-1" strike="noStrike">
              <a:solidFill>
                <a:srgbClr val="f9f9f9"/>
              </a:solidFill>
              <a:latin typeface="Constantia"/>
            </a:endParaRPr>
          </a:p>
        </p:txBody>
      </p:sp>
      <p:sp>
        <p:nvSpPr>
          <p:cNvPr id="18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lear</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trolling idea</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focused/ narrowe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ufficient inform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sightfu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rigin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interesting detail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mplete</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838080" y="1066680"/>
            <a:ext cx="6782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anization is the internal structure of a piece of writing like the framework of a building. It is the road map which directs the reader through the paper, the thread of central meaning, the logical pattern of the ideas. Good organization helps a reader          understand the writer’s message or follow the writing with ea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gin his/her writing with an inviting introduction th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ooks” the read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llow a logical and effective order, structure, &amp; sequenc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smooth transitions that link key points and idea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lace supporting details where they are most appropria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 his/her writing with a conclusion that gives the read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ense of resolution or something to think abo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1371600" y="838080"/>
            <a:ext cx="655308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al structure enhance or showcase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 idea or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oes the organization follow a logical sequenc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rganization</a:t>
            </a:r>
            <a:endParaRPr b="0" lang="en-US" sz="4200" spc="-1" strike="noStrike">
              <a:solidFill>
                <a:srgbClr val="f9f9f9"/>
              </a:solidFill>
              <a:latin typeface="Constantia"/>
            </a:endParaRPr>
          </a:p>
        </p:txBody>
      </p:sp>
      <p:sp>
        <p:nvSpPr>
          <p:cNvPr id="188"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ealing ope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direction/ logical progression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sequen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nnected-nes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mooth transition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good pac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builds to high point</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strong sense of conclusion</a:t>
            </a:r>
            <a:endParaRPr b="0" lang="en-US" sz="2400" spc="-1" strike="noStrike">
              <a:solidFill>
                <a:srgbClr val="fefac9"/>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0" name="PlaceHolder 2"/>
          <p:cNvSpPr>
            <a:spLocks noGrp="1"/>
          </p:cNvSpPr>
          <p:nvPr>
            <p:ph/>
          </p:nvPr>
        </p:nvSpPr>
        <p:spPr>
          <a:xfrm>
            <a:off x="609480" y="1447560"/>
            <a:ext cx="8229600" cy="4678200"/>
          </a:xfrm>
          <a:prstGeom prst="rect">
            <a:avLst/>
          </a:prstGeom>
          <a:noFill/>
          <a:ln w="0">
            <a:noFill/>
          </a:ln>
        </p:spPr>
        <p:txBody>
          <a:bodyPr anchor="t">
            <a:normAutofit fontScale="95000"/>
          </a:bodyPr>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Word choice is the use of rich, colorful, precise language that moves and enlightens the reader.</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Strong word choice clarifies and expands ideas.</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Don’t tell me the moon is shining; show me the glint of light on broken glass.”</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endParaRPr b="0" lang="en-US" sz="2000" spc="-1" strike="noStrike">
              <a:solidFill>
                <a:srgbClr val="ffffff"/>
              </a:solidFill>
              <a:latin typeface="Constantia"/>
            </a:endParaRPr>
          </a:p>
          <a:p>
            <a:pPr marL="259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powerful action verbs (vivid verb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specific descriptive noun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adjectives that are as descriptive as possible</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Be concise (tighten sentences)</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words correctly </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language that is natural and not overdone</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Use figurative language – similes, metaphors, hyperbole (exaggeration)</a:t>
            </a:r>
            <a:endParaRPr b="0" lang="en-US" sz="20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void repetition, slang, and clichés</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23880"/>
            <a:ext cx="8229600" cy="4572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 the words &amp; phrases create vivid pictures in the reader’s mind?</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ave I used any new words?</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try not to repeat words too many times?</a:t>
            </a:r>
            <a:endParaRPr b="0" lang="en-US" sz="2600" spc="-1" strike="noStrike">
              <a:solidFill>
                <a:srgbClr val="ffffff"/>
              </a:solidFill>
              <a:latin typeface="Constantia"/>
            </a:endParaRPr>
          </a:p>
        </p:txBody>
      </p:sp>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Word choice</a:t>
            </a:r>
            <a:endParaRPr b="0" lang="en-US" sz="4200" spc="-1" strike="noStrike">
              <a:solidFill>
                <a:srgbClr val="f9f9f9"/>
              </a:solidFill>
              <a:latin typeface="Constantia"/>
            </a:endParaRPr>
          </a:p>
        </p:txBody>
      </p:sp>
      <p:sp>
        <p:nvSpPr>
          <p:cNvPr id="194"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atural</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tive, energetic verb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recise, concrete nouns &amp; modifier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new twists on everyday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minimal redundancy (repetitive, unnecessary)</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ccuracy of express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paints pictures</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6"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ink for transitional words/phrases</a:t>
            </a:r>
            <a:endParaRPr b="0" lang="en-US" sz="2600" spc="-1" strike="noStrike">
              <a:solidFill>
                <a:srgbClr val="ffffff"/>
              </a:solidFill>
              <a:latin typeface="Constantia"/>
            </a:endParaRPr>
          </a:p>
        </p:txBody>
      </p:sp>
      <p:sp>
        <p:nvSpPr>
          <p:cNvPr id="197" name="Rectangle 4"/>
          <p:cNvSpPr/>
          <p:nvPr/>
        </p:nvSpPr>
        <p:spPr>
          <a:xfrm>
            <a:off x="2007360" y="3246480"/>
            <a:ext cx="512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e58b6"/>
                </a:solidFill>
                <a:uFillTx/>
                <a:latin typeface="Arial"/>
                <a:hlinkClick r:id="rId1"/>
              </a:rPr>
              <a:t>http://www.smart-words.org/transition-word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19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Sentence fluency is the rhythm and flow of the language, the sound of word patterns, the way the writing plays to the ear, not just to the eye.</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To me the greatest pleasure of writing is not what it’s about, but the music the words mak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 writer should:</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Vary the length of sentence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different sentence structures or pattern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Begin the sentence in different ways</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complete sentences – any fragments must add to the </a:t>
            </a:r>
            <a:endParaRPr b="0" lang="en-US" sz="22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meaning of the text</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Use language that sounds natural</a:t>
            </a: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Give the writing an easy flow and rhythm</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1"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1" lang="en-US" sz="2600" spc="-1" strike="noStrike" u="sng">
                <a:solidFill>
                  <a:srgbClr val="ffffff"/>
                </a:solidFill>
                <a:uFillTx/>
                <a:latin typeface="Constantia"/>
              </a:rPr>
              <a:t>Key Question</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an you FEEL the words and phrases flow </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ogether as you read it aloud?</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basic reading inventory focuses on five area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honemic awareness</a:t>
            </a:r>
            <a:endParaRPr b="0" lang="en-US" sz="2600" spc="-1" strike="noStrike">
              <a:solidFill>
                <a:srgbClr val="ffffff"/>
              </a:solidFill>
              <a:latin typeface="Constantia"/>
            </a:endParaRPr>
          </a:p>
          <a:p>
            <a:pPr>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phonics</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fluency</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vocabulary </a:t>
            </a:r>
            <a:endParaRPr b="0" lang="en-US" sz="2600" spc="-1" strike="noStrike">
              <a:solidFill>
                <a:srgbClr val="ffffff"/>
              </a:solidFill>
              <a:latin typeface="Constantia"/>
            </a:endParaRPr>
          </a:p>
          <a:p>
            <a:pPr>
              <a:spcBef>
                <a:spcPts val="601"/>
              </a:spcBef>
              <a:buClr>
                <a:srgbClr val="f3a44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comprehension</a:t>
            </a: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last three will be the main area of focus</a:t>
            </a:r>
            <a:endParaRPr b="0" lang="en-US" sz="2600" spc="-1" strike="noStrike">
              <a:solidFill>
                <a:srgbClr val="ffffff"/>
              </a:solidFill>
              <a:latin typeface="Constantia"/>
            </a:endParaRPr>
          </a:p>
        </p:txBody>
      </p:sp>
      <p:pic>
        <p:nvPicPr>
          <p:cNvPr id="173" name="Title 1" descr=""/>
          <p:cNvPicPr/>
          <p:nvPr/>
        </p:nvPicPr>
        <p:blipFill>
          <a:blip r:embed="rId1"/>
          <a:stretch/>
        </p:blipFill>
        <p:spPr>
          <a:xfrm>
            <a:off x="225360" y="152280"/>
            <a:ext cx="8461440" cy="150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Sentence fluency</a:t>
            </a:r>
            <a:endParaRPr b="0" lang="en-US" sz="4200" spc="-1" strike="noStrike">
              <a:solidFill>
                <a:srgbClr val="f9f9f9"/>
              </a:solidFill>
              <a:latin typeface="Constantia"/>
            </a:endParaRPr>
          </a:p>
        </p:txBody>
      </p:sp>
      <p:sp>
        <p:nvSpPr>
          <p:cNvPr id="203" name="PlaceHolder 2"/>
          <p:cNvSpPr>
            <a:spLocks noGrp="1"/>
          </p:cNvSpPr>
          <p:nvPr>
            <p:ph/>
          </p:nvPr>
        </p:nvSpPr>
        <p:spPr>
          <a:xfrm>
            <a:off x="457200" y="1447560"/>
            <a:ext cx="8229600" cy="4678200"/>
          </a:xfrm>
          <a:prstGeom prst="rect">
            <a:avLst/>
          </a:prstGeom>
          <a:noFill/>
          <a:ln w="0">
            <a:noFill/>
          </a:ln>
        </p:spPr>
        <p:txBody>
          <a:bodyPr anchor="t">
            <a:normAutofit/>
          </a:bodyPr>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heck list:</a:t>
            </a:r>
            <a:endParaRPr b="0" lang="en-US" sz="2400" spc="-1" strike="noStrike">
              <a:solidFill>
                <a:srgbClr val="fefac9"/>
              </a:solidFill>
              <a:latin typeface="Constantia"/>
            </a:endParaRPr>
          </a:p>
          <a:p>
            <a:pPr lvl="1" marL="639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e, memorable word combinations graceful, easy to read aloud</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natural, pleasant rhythm</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variety in length, type &amp; structure </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ructure enhances mean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effective, smooth phrasing</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It is the heart and soul of the writing, the magic, the wit, the feeling and conviction of the writer coming through the words; it is the personality of the writer coming through on the page. It is what gives the reader the feeling that the writer is talking directly to you.</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A writer should:</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Write honestly and from the heart</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nnect and interact with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are about topic </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Speak directly to the reader in a way that is individual</a:t>
            </a:r>
            <a:endParaRPr b="0" lang="en-US" sz="1700" spc="-1" strike="noStrike">
              <a:solidFill>
                <a:srgbClr val="ffffff"/>
              </a:solidFill>
              <a:latin typeface="Constantia"/>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compelling and engaging</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Keep the reader interested in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Share his/her feelings about the topic</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 language that brings the topic to life for the reader</a:t>
            </a:r>
            <a:endParaRPr b="0" lang="en-US" sz="17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 expression to voice personality </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Key Questions</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the writing sound like me?</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id I say what I think and feel?</a:t>
            </a:r>
            <a:endParaRPr b="0" lang="en-US" sz="2600" spc="-1" strike="noStrike">
              <a:solidFill>
                <a:srgbClr val="ffffff"/>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oes my writing have energy and passi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Voice</a:t>
            </a:r>
            <a:endParaRPr b="0" lang="en-US" sz="4200" spc="-1" strike="noStrike">
              <a:solidFill>
                <a:srgbClr val="f9f9f9"/>
              </a:solidFill>
              <a:latin typeface="Constantia"/>
            </a:endParaRPr>
          </a:p>
        </p:txBody>
      </p:sp>
      <p:sp>
        <p:nvSpPr>
          <p:cNvPr id="209"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obvious person behind the words</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writer is committed/involved with topic</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reaches out/connects to audienc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nergetic, lively, consistent ton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finite point of view</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1" name="PlaceHolder 2"/>
          <p:cNvSpPr>
            <a:spLocks noGrp="1"/>
          </p:cNvSpPr>
          <p:nvPr>
            <p:ph/>
          </p:nvPr>
        </p:nvSpPr>
        <p:spPr>
          <a:xfrm>
            <a:off x="457200" y="1447560"/>
            <a:ext cx="8229600" cy="467820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Conventions are the rules of the language. They are the common patterns of grammar and usage, spelling, punctuation, paragraphing (indenting) and capitalization that readers expect in good writing. They make writing easy to read and understand. </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 writer should:                               </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Proofread and edit the paper</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Use capitalization correctly</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Make sure all spelling is corrected</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rrect all grammar and punctuation</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Reinforce the organization with good paragraphing</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urn in a clean, edited, and polished final draft</a:t>
            </a:r>
            <a:endParaRPr b="0" lang="en-US" sz="2000" spc="-1" strike="noStrike">
              <a:solidFill>
                <a:srgbClr val="ffffff"/>
              </a:solidFill>
              <a:latin typeface="Constantia"/>
            </a:endParaRPr>
          </a:p>
          <a:p>
            <a:pPr>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Good ideas could be overshadowed by errors in conventions</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that distract the reader;  essential to a polished</a:t>
            </a:r>
            <a:endParaRPr b="0" lang="en-US" sz="2000" spc="-1" strike="noStrike">
              <a:solidFill>
                <a:srgbClr val="ffffff"/>
              </a:solidFill>
              <a:latin typeface="Constanti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composition</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onventions</a:t>
            </a:r>
            <a:endParaRPr b="0" lang="en-US" sz="4200" spc="-1" strike="noStrike">
              <a:solidFill>
                <a:srgbClr val="f9f9f9"/>
              </a:solidFill>
              <a:latin typeface="Constantia"/>
            </a:endParaRPr>
          </a:p>
        </p:txBody>
      </p:sp>
      <p:sp>
        <p:nvSpPr>
          <p:cNvPr id="213"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heck list:</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effective use of conjunctions &amp; transitions correct spelling</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effective punctu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appropriate grammar/ usage</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correct capitalization</a:t>
            </a:r>
            <a:endParaRPr b="0" lang="en-US" sz="2400" spc="-1" strike="noStrike">
              <a:solidFill>
                <a:srgbClr val="fefac9"/>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Constantia"/>
              </a:rPr>
              <a:t>designed to make reading easy</a:t>
            </a:r>
            <a:endParaRPr b="0" lang="en-US" sz="2400" spc="-1" strike="noStrike">
              <a:solidFill>
                <a:srgbClr val="fefac9"/>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5" name="PlaceHolder 2"/>
          <p:cNvSpPr>
            <a:spLocks noGrp="1"/>
          </p:cNvSpPr>
          <p:nvPr>
            <p:ph/>
          </p:nvPr>
        </p:nvSpPr>
        <p:spPr>
          <a:xfrm>
            <a:off x="380880" y="1371240"/>
            <a:ext cx="8229600" cy="46782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CREATIVE, PERSONAL FACE:</a:t>
            </a:r>
            <a:r>
              <a:rPr b="1" lang="en-US" sz="3500" spc="-1" strike="noStrike" u="sng">
                <a:solidFill>
                  <a:srgbClr val="ffffff"/>
                </a:solidFill>
                <a:uFillTx/>
                <a:latin typeface="Constantia"/>
              </a:rPr>
              <a:t>  </a:t>
            </a:r>
            <a:br>
              <a:rPr sz="3500"/>
            </a:br>
            <a:r>
              <a:rPr b="1" lang="en-US" sz="3500" spc="-1" strike="noStrike">
                <a:solidFill>
                  <a:srgbClr val="ffffff"/>
                </a:solidFill>
                <a:latin typeface="Constantia"/>
              </a:rPr>
              <a:t>Does the flow of the writing keep you reading?</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 </a:t>
            </a:r>
            <a:r>
              <a:rPr b="1" lang="en-US" sz="2600" spc="-1" strike="noStrike">
                <a:solidFill>
                  <a:srgbClr val="ffffff"/>
                </a:solidFill>
                <a:latin typeface="Constantia"/>
              </a:rPr>
              <a:t>INFORMATIONAL FACE:</a:t>
            </a:r>
            <a:endParaRPr b="0" lang="en-US" sz="26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Constantia"/>
              </a:rPr>
              <a:t>Does organization help you understand key points or issues?</a:t>
            </a: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The Two Faces of the Traits</a:t>
            </a:r>
            <a:endParaRPr b="0" lang="en-US" sz="4200" spc="-1" strike="noStrike">
              <a:solidFill>
                <a:srgbClr val="f9f9f9"/>
              </a:solidFill>
              <a:latin typeface="Constantia"/>
            </a:endParaRPr>
          </a:p>
        </p:txBody>
      </p:sp>
      <p:sp>
        <p:nvSpPr>
          <p:cNvPr id="217"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reative, Pers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Hooks the reader</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lear transition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Wow of an ending</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Main Point</a:t>
            </a: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ational Fac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To-the-point lead</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Connecting structure</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Informs and educates</a:t>
            </a:r>
            <a:endParaRPr b="0" lang="en-US" sz="2200" spc="-1" strike="noStrike">
              <a:solidFill>
                <a:srgbClr val="ffffff"/>
              </a:solidFill>
              <a:latin typeface="Constantia"/>
            </a:endParaRPr>
          </a:p>
          <a:p>
            <a:pPr marL="272880" indent="-272880">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nstantia"/>
              </a:rPr>
              <a:t>Ending reinforces main point</a:t>
            </a:r>
            <a:endParaRPr b="0" lang="en-US" sz="2200" spc="-1" strike="noStrike">
              <a:solidFill>
                <a:srgbClr val="ffffff"/>
              </a:solidFill>
              <a:latin typeface="Constantia"/>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Overall-The Paper</a:t>
            </a: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heck list:</a:t>
            </a:r>
            <a:endParaRPr b="0" lang="en-US" sz="1700" spc="-1" strike="noStrike">
              <a:solidFill>
                <a:srgbClr val="ffffff"/>
              </a:solidFill>
              <a:latin typeface="Constantia"/>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has an effective beginning, middle, and end</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aragraphing effectively</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a strong controlling idea</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progresses in a logical order</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 </a:t>
            </a:r>
            <a:r>
              <a:rPr b="0" lang="en-US" sz="1700" spc="-1" strike="noStrike">
                <a:solidFill>
                  <a:srgbClr val="ffffff"/>
                </a:solidFill>
                <a:latin typeface="Constantia"/>
              </a:rPr>
              <a:t>uses effective cohesive devices (such as transitions, repetition, pronouns, parallel structure) between and within paragraph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addresses the topic and provides convincing elaboration through specific and relevant details, reasons, and examples</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uses precise and vivid languag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sentences that are clear and varied in structur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effectively uses writing techniques (such as imagery, humor, point of view, voic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shows complexity, freshness of thought, and individual perspectiv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learly shows an awareness of audience and purpose</a:t>
            </a:r>
            <a:endParaRPr b="0" lang="en-US" sz="1700" spc="-1" strike="noStrike">
              <a:solidFill>
                <a:srgbClr val="ffffff"/>
              </a:solidFill>
              <a:latin typeface="Constantia"/>
            </a:endParaRPr>
          </a:p>
          <a:p>
            <a:pPr marL="264600" indent="-2646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nstantia"/>
              </a:rPr>
              <a:t>contains few errors in grammar/usage, punctuation, capitalization, and/or spelling</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762120" y="914400"/>
            <a:ext cx="79246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I will be checking your:</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independent reading level</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frustration level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strategies for word identification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fluency </a:t>
            </a: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strengths and weaknesses i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   </a:t>
            </a:r>
            <a:r>
              <a:rPr b="0" lang="en-US" sz="3200" spc="-1" strike="noStrike">
                <a:solidFill>
                  <a:srgbClr val="ffffff"/>
                </a:solidFill>
                <a:latin typeface="Constantia"/>
              </a:rPr>
              <a:t>comprehensi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This will help determine where you are as a rea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Box 1"/>
          <p:cNvSpPr/>
          <p:nvPr/>
        </p:nvSpPr>
        <p:spPr>
          <a:xfrm>
            <a:off x="380880" y="660240"/>
            <a:ext cx="8382240" cy="56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hy writing is impor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expresses who you are as a person</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portable and permanent and makes  thinking visible</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helps you move easily among facts, inferences, and opinions without getting confused, and without confusing your read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deas down preserves them so that you can reflect upon them later</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provides communication and thinking skills needed to participate effectively in society</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Writing is an essential job skill</a:t>
            </a: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2"/>
          <p:cNvSpPr/>
          <p:nvPr/>
        </p:nvSpPr>
        <p:spPr>
          <a:xfrm>
            <a:off x="762120" y="1143000"/>
            <a:ext cx="723888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 6 + 1 Traits of Wri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deas/content</a:t>
            </a:r>
            <a:r>
              <a:rPr b="0" lang="en-US" sz="1800" spc="-1" strike="noStrike">
                <a:solidFill>
                  <a:srgbClr val="ffffff"/>
                </a:solidFill>
                <a:latin typeface="Constantia"/>
              </a:rPr>
              <a:t>-the heart of the message, the content of the piece, the main theme, with details that enrich and develop that them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Organization</a:t>
            </a:r>
            <a:r>
              <a:rPr b="0" lang="en-US" sz="1800" spc="-1" strike="noStrike">
                <a:solidFill>
                  <a:srgbClr val="ffffff"/>
                </a:solidFill>
                <a:latin typeface="Constantia"/>
              </a:rPr>
              <a:t>-the internal structure (the roadmap), the thread of central meaning, the logical and sometimes intriguing pattern of idea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Voice</a:t>
            </a:r>
            <a:r>
              <a:rPr b="0" lang="en-US" sz="1800" spc="-1" strike="noStrike">
                <a:solidFill>
                  <a:srgbClr val="ffffff"/>
                </a:solidFill>
                <a:latin typeface="Constantia"/>
              </a:rPr>
              <a:t>-the heart and soul, magic, wit, feeling and conviction of the writer coming out</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d choice-</a:t>
            </a:r>
            <a:r>
              <a:rPr b="0" lang="en-US" sz="1800" spc="-1" strike="noStrike">
                <a:solidFill>
                  <a:srgbClr val="ffffff"/>
                </a:solidFill>
                <a:latin typeface="Constantia"/>
              </a:rPr>
              <a:t>the use of rich, colorful, precise language that moves and enlightens the readers</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Sentence fluency-</a:t>
            </a:r>
            <a:r>
              <a:rPr b="0" lang="en-US" sz="1800" spc="-1" strike="noStrike">
                <a:solidFill>
                  <a:srgbClr val="ffffff"/>
                </a:solidFill>
                <a:latin typeface="Constantia"/>
              </a:rPr>
              <a:t>the rhythm and flow of the language, the sound of word patterns, the way in which the writing plays to the ear, not just to the eye</a:t>
            </a: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Conventions</a:t>
            </a:r>
            <a:r>
              <a:rPr b="0" lang="en-US" sz="1800" spc="-1" strike="noStrike">
                <a:solidFill>
                  <a:srgbClr val="ffffff"/>
                </a:solidFill>
                <a:latin typeface="Constantia"/>
              </a:rPr>
              <a:t>-the mechanical correctness of the piece; spelling, grammar, and usage, paragraphing, use of capitals and punctua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Presentations</a:t>
            </a:r>
            <a:r>
              <a:rPr b="0" lang="en-US" sz="1800" spc="-1" strike="noStrike">
                <a:solidFill>
                  <a:srgbClr val="ffffff"/>
                </a:solidFill>
                <a:latin typeface="Constantia"/>
              </a:rPr>
              <a:t>-the culmination all, the sharing with outside reade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939960" y="1514520"/>
            <a:ext cx="7315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TextBox 5"/>
          <p:cNvSpPr/>
          <p:nvPr/>
        </p:nvSpPr>
        <p:spPr>
          <a:xfrm>
            <a:off x="939960" y="609480"/>
            <a:ext cx="72133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rubric based on the traits </a:t>
            </a:r>
            <a:r>
              <a:rPr b="0" lang="en-US" sz="1800" spc="-1" strike="noStrike">
                <a:solidFill>
                  <a:srgbClr val="ffffff"/>
                </a:solidFill>
                <a:latin typeface="Arial"/>
              </a:rPr>
              <a:t>will be used as an assessment tool </a:t>
            </a:r>
            <a:r>
              <a:rPr b="0" lang="en-US" sz="1800" spc="-1" strike="noStrike">
                <a:solidFill>
                  <a:srgbClr val="ffffff"/>
                </a:solidFill>
                <a:latin typeface="Constantia"/>
              </a:rPr>
              <a:t>for various written wor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variety of graphic organizers will be introduced for use during the writing process; they will help with organization.  They can also be a useful tool when researching information for projec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When researching, it is required that sources be cited when information is  “borrowed” or obtained from an internet sour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 worksheet will be available, along with other strategies/tools to keep track of the web sites, and pertinent information that will be needed to create a work cited page for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8229600" cy="467820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Learning the Traits One by 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
          <p:cNvSpPr/>
          <p:nvPr/>
        </p:nvSpPr>
        <p:spPr>
          <a:xfrm>
            <a:off x="2286000" y="336600"/>
            <a:ext cx="4572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deas/Cont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deas are the heart of the message, the content of the piece, together with strong, clear and interesting details that enrich and develop the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riter shoul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arrow the topic to something specific</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lude fresh, original ide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ick to a clear, central theme that drives the writing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te the main idea with plenty of informa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important, interesting supporting detail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velop the topic in an interesting way</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Lots of </a:t>
            </a:r>
            <a:r>
              <a:rPr b="0" i="1" lang="en-US" sz="1800" spc="-1" strike="noStrike" u="sng">
                <a:solidFill>
                  <a:srgbClr val="ffffff"/>
                </a:solidFill>
                <a:uFillTx/>
                <a:latin typeface="Arial"/>
              </a:rPr>
              <a:t>showing</a:t>
            </a:r>
            <a:r>
              <a:rPr b="0" lang="en-US" sz="1800" spc="-1" strike="noStrike">
                <a:solidFill>
                  <a:srgbClr val="ffffff"/>
                </a:solidFill>
                <a:latin typeface="Arial"/>
              </a:rPr>
              <a:t> (specific) rather than </a:t>
            </a:r>
            <a:r>
              <a:rPr b="0" i="1" lang="en-US" sz="1800" spc="-1" strike="noStrike" u="sng">
                <a:solidFill>
                  <a:srgbClr val="ffffff"/>
                </a:solidFill>
                <a:uFillTx/>
                <a:latin typeface="Arial"/>
              </a:rPr>
              <a:t>telling</a:t>
            </a:r>
            <a:r>
              <a:rPr b="0" lang="en-US" sz="1800" spc="-1" strike="noStrike">
                <a:solidFill>
                  <a:srgbClr val="ffffff"/>
                </a:solidFill>
                <a:latin typeface="Arial"/>
              </a:rPr>
              <a:t> (generaliti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tay in control of the topic (the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
          <p:cNvSpPr/>
          <p:nvPr/>
        </p:nvSpPr>
        <p:spPr>
          <a:xfrm>
            <a:off x="990720" y="185904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Key Question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tay focus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share original and fresh information or his/her perspective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opi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d the writer get off the topic and start drif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6:28:36Z</dcterms:created>
  <dc:creator>Spriggs, Penny</dc:creator>
  <dc:description/>
  <dc:language>en-US</dc:language>
  <cp:lastModifiedBy>McCracken, Gene</cp:lastModifiedBy>
  <dcterms:modified xsi:type="dcterms:W3CDTF">2012-01-16T17:07:09Z</dcterms:modified>
  <cp:revision>44</cp:revision>
  <dc:subject/>
  <dc:title>READING AND WRITING:</dc:title>
</cp:coreProperties>
</file>